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E049-A33E-4100-BC41-985F09A37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23DC-3403-4B41-BBB1-F1C5DADD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998D-EF7C-44A3-9AAC-4FB1F1A26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0FE5-EBE9-450B-A945-F7654DF20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84AC-7E12-4DED-8387-607E102E5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F4CAC-880E-431D-9779-81099C67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682F-35B7-4753-BBCD-6C37151B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A4C6-AFA9-42C5-B4C5-9BBF9567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8A6D-8E01-448C-B433-D7F1D15B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9BDD-F9F0-41F6-8340-2C8C9D2C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E8B8-4E06-4948-B5DB-BE018B7C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E919-02DC-4B37-8BAA-7A2ADF7B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5AAF-1BD9-4ADC-822D-0DE239BD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6B57-24CB-498E-89B3-B9F1C3BD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3E10-3749-4C44-AE66-1CABC253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8AB0-F585-483E-A5E6-4FEE11115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A9D0-1A8E-46D2-94EB-AA52687E0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8C59-7423-4A14-AE6A-1B4921FA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FB8C-C286-4517-B4AC-644952BB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E2F2-3706-4296-9264-04AA3D17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970B-7E96-49B8-A3E5-D235F547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7FEE-B8A1-46E8-8B35-5945E6B5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A763-78D1-4E8A-B246-8EB4D436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F4E7-7127-4B65-A7EC-E1FEBBF2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D0B1-29F8-45E1-9228-50334E361B15}" type="slidenum">
              <a:rPr b="1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22FE-CF6F-4C1D-AF34-F4000AB29FC4}" type="slidenum">
              <a:rPr b="1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1"/>
          <a:srcRect l="5741" t="12734" r="6975" b="18005"/>
          <a:stretch/>
        </p:blipFill>
        <p:spPr>
          <a:xfrm>
            <a:off x="1763640" y="2066760"/>
            <a:ext cx="7164360" cy="4557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SWScan00286"/>
          <p:cNvPicPr/>
          <p:nvPr/>
        </p:nvPicPr>
        <p:blipFill>
          <a:blip r:embed="rId2"/>
          <a:srcRect l="55813" t="11043" r="12993" b="39003"/>
          <a:stretch/>
        </p:blipFill>
        <p:spPr>
          <a:xfrm>
            <a:off x="0" y="0"/>
            <a:ext cx="1476360" cy="6858000"/>
          </a:xfrm>
          <a:prstGeom prst="rect">
            <a:avLst/>
          </a:prstGeom>
          <a:ln w="19080">
            <a:solidFill>
              <a:srgbClr val="7f7f7f"/>
            </a:solidFill>
            <a:miter/>
          </a:ln>
        </p:spPr>
      </p:pic>
      <p:pic>
        <p:nvPicPr>
          <p:cNvPr id="84" name="WordArt 8" descr=""/>
          <p:cNvPicPr/>
          <p:nvPr/>
        </p:nvPicPr>
        <p:blipFill>
          <a:blip r:embed="rId3"/>
          <a:stretch/>
        </p:blipFill>
        <p:spPr>
          <a:xfrm>
            <a:off x="1689120" y="109440"/>
            <a:ext cx="7242120" cy="1633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Пользователь\Desktop\1v5_enlgw.jpg"/>
          <p:cNvPicPr/>
          <p:nvPr/>
        </p:nvPicPr>
        <p:blipFill>
          <a:blip r:embed="rId4"/>
          <a:stretch/>
        </p:blipFill>
        <p:spPr>
          <a:xfrm>
            <a:off x="108000" y="92160"/>
            <a:ext cx="1295280" cy="1725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1763640" y="1176840"/>
            <a:ext cx="70563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1. Поэт Г.Р. Державин и композитор О.А. Козловский были авторами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А) гимна - марша «гром победы, раздавайся»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Б) «Преображенского марша»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) русского духовного гимна «Коль славен наш Господь в Сионе»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2. Инициатором создания собственного национального гимна российской империи был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А) Александр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Б) Николай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) Александр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3. Национальный гимн России «Боже, царя храни!» был создан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А) В.А. Жуковским и А.Ф. Львовым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Б) М.М. Харасковым и Д.С. Бортнянским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) К.Д. Бальмонтом и А.Т. Гречаниновым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4. Назовите государственный гимн Советской России в 1918 –1943 гг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А) «Марсельеза»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Б) «Гимн партии большевиков»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) «Интернационал»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5. Автором слов современного государственного гимна России является поэт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А) А. Вознесенский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Б) С. Михалков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) В. Лебедев- Кумач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6. Современный государственный гимн России утвержден на музыку композитора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А) А. Александрова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Б) М. Глинки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) А. Пахмутовой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WordArt 8" descr=""/>
          <p:cNvPicPr/>
          <p:nvPr/>
        </p:nvPicPr>
        <p:blipFill>
          <a:blip r:embed="rId1"/>
          <a:stretch/>
        </p:blipFill>
        <p:spPr>
          <a:xfrm>
            <a:off x="5492880" y="171360"/>
            <a:ext cx="3438360" cy="919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SWScan00286"/>
          <p:cNvPicPr/>
          <p:nvPr/>
        </p:nvPicPr>
        <p:blipFill>
          <a:blip r:embed="rId2"/>
          <a:srcRect l="55813" t="11043" r="12993" b="39003"/>
          <a:stretch/>
        </p:blipFill>
        <p:spPr>
          <a:xfrm>
            <a:off x="0" y="0"/>
            <a:ext cx="1476360" cy="6858000"/>
          </a:xfrm>
          <a:prstGeom prst="rect">
            <a:avLst/>
          </a:prstGeom>
          <a:ln w="19080">
            <a:solidFill>
              <a:srgbClr val="7f7f7f"/>
            </a:solidFill>
            <a:miter/>
          </a:ln>
        </p:spPr>
      </p:pic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SWScan00286"/>
          <p:cNvPicPr/>
          <p:nvPr/>
        </p:nvPicPr>
        <p:blipFill>
          <a:blip r:embed="rId1"/>
          <a:srcRect l="55813" t="11043" r="12993" b="39003"/>
          <a:stretch/>
        </p:blipFill>
        <p:spPr>
          <a:xfrm>
            <a:off x="0" y="0"/>
            <a:ext cx="1476360" cy="6858000"/>
          </a:xfrm>
          <a:prstGeom prst="rect">
            <a:avLst/>
          </a:prstGeom>
          <a:ln w="19080">
            <a:solidFill>
              <a:srgbClr val="7f7f7f"/>
            </a:solidFill>
            <a:miter/>
          </a:ln>
        </p:spPr>
      </p:pic>
      <p:grpSp>
        <p:nvGrpSpPr>
          <p:cNvPr id="90" name="Group 978"/>
          <p:cNvGrpSpPr/>
          <p:nvPr/>
        </p:nvGrpSpPr>
        <p:grpSpPr>
          <a:xfrm>
            <a:off x="603000" y="2329200"/>
            <a:ext cx="3042360" cy="2961720"/>
            <a:chOff x="603000" y="2329200"/>
            <a:chExt cx="3042360" cy="2961720"/>
          </a:xfrm>
        </p:grpSpPr>
        <p:pic>
          <p:nvPicPr>
            <p:cNvPr id="91" name="Picture 974" descr=""/>
            <p:cNvPicPr/>
            <p:nvPr/>
          </p:nvPicPr>
          <p:blipFill>
            <a:blip r:embed="rId2"/>
            <a:srcRect l="9547" t="18368" r="61545" b="47266"/>
            <a:stretch/>
          </p:blipFill>
          <p:spPr>
            <a:xfrm rot="1902600">
              <a:off x="971640" y="2781360"/>
              <a:ext cx="230508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AutoShape 973"/>
            <p:cNvSpPr/>
            <p:nvPr/>
          </p:nvSpPr>
          <p:spPr>
            <a:xfrm>
              <a:off x="2340000" y="3933720"/>
              <a:ext cx="360360" cy="503280"/>
            </a:xfrm>
            <a:prstGeom prst="downArrow">
              <a:avLst>
                <a:gd name="adj1" fmla="val 50000"/>
                <a:gd name="adj2" fmla="val 349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3" name=""/>
          <p:cNvGraphicFramePr/>
          <p:nvPr/>
        </p:nvGraphicFramePr>
        <p:xfrm>
          <a:off x="3851280" y="3500280"/>
          <a:ext cx="5148360" cy="3200400"/>
        </p:xfrm>
        <a:graphic>
          <a:graphicData uri="http://schemas.openxmlformats.org/drawingml/2006/table">
            <a:tbl>
              <a:tblPr/>
              <a:tblGrid>
                <a:gridCol w="270000"/>
                <a:gridCol w="271440"/>
                <a:gridCol w="269640"/>
                <a:gridCol w="271440"/>
                <a:gridCol w="270000"/>
                <a:gridCol w="270000"/>
                <a:gridCol w="271440"/>
                <a:gridCol w="269640"/>
                <a:gridCol w="271800"/>
                <a:gridCol w="269640"/>
                <a:gridCol w="271440"/>
                <a:gridCol w="271440"/>
                <a:gridCol w="268560"/>
                <a:gridCol w="271440"/>
                <a:gridCol w="274320"/>
                <a:gridCol w="270000"/>
                <a:gridCol w="271440"/>
                <a:gridCol w="271440"/>
                <a:gridCol w="27324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Rectangle 965"/>
          <p:cNvSpPr/>
          <p:nvPr/>
        </p:nvSpPr>
        <p:spPr>
          <a:xfrm>
            <a:off x="3959280" y="764640"/>
            <a:ext cx="51847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По горизонтали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.Название марша первого петровского полка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.Название музыкального произведения, которое звучало на официальных государственных мероприятиях Временного правительства в 1917 году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.Автор музыки"Патриотической песни"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4.Русский поэт, автор первого российского неофициального гимна-марша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5.Русский поэт, автор слов гимна "Боже, царя храни!"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По вертикали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.Композитор, автор музыки государственного гимна современной Росси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.Партийный гимн российской социал-демократии, ставший впоследствии государственным гимном Советского Союза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977"/>
          <p:cNvGrpSpPr/>
          <p:nvPr/>
        </p:nvGrpSpPr>
        <p:grpSpPr>
          <a:xfrm>
            <a:off x="1403280" y="4508640"/>
            <a:ext cx="1673280" cy="2173320"/>
            <a:chOff x="1403280" y="4508640"/>
            <a:chExt cx="1673280" cy="2173320"/>
          </a:xfrm>
        </p:grpSpPr>
        <p:pic>
          <p:nvPicPr>
            <p:cNvPr id="96" name="Picture 967" descr="глинка"/>
            <p:cNvPicPr/>
            <p:nvPr/>
          </p:nvPicPr>
          <p:blipFill>
            <a:blip r:embed="rId3"/>
            <a:stretch/>
          </p:blipFill>
          <p:spPr>
            <a:xfrm>
              <a:off x="1403280" y="4508640"/>
              <a:ext cx="1673280" cy="21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AutoShape 970"/>
            <p:cNvSpPr/>
            <p:nvPr/>
          </p:nvSpPr>
          <p:spPr>
            <a:xfrm>
              <a:off x="1476360" y="6237360"/>
              <a:ext cx="431640" cy="360360"/>
            </a:xfrm>
            <a:prstGeom prst="rightArrow">
              <a:avLst>
                <a:gd name="adj1" fmla="val 50000"/>
                <a:gd name="adj2" fmla="val 2994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Group 976"/>
          <p:cNvGrpSpPr/>
          <p:nvPr/>
        </p:nvGrpSpPr>
        <p:grpSpPr>
          <a:xfrm>
            <a:off x="2771640" y="2637000"/>
            <a:ext cx="1231920" cy="2109600"/>
            <a:chOff x="2771640" y="2637000"/>
            <a:chExt cx="1231920" cy="2109600"/>
          </a:xfrm>
        </p:grpSpPr>
        <p:pic>
          <p:nvPicPr>
            <p:cNvPr id="99" name="Picture 968" descr="державин"/>
            <p:cNvPicPr/>
            <p:nvPr/>
          </p:nvPicPr>
          <p:blipFill>
            <a:blip r:embed="rId4"/>
            <a:stretch/>
          </p:blipFill>
          <p:spPr>
            <a:xfrm>
              <a:off x="2771640" y="2637000"/>
              <a:ext cx="1231920" cy="210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AutoShape 971"/>
            <p:cNvSpPr/>
            <p:nvPr/>
          </p:nvSpPr>
          <p:spPr>
            <a:xfrm>
              <a:off x="2843280" y="4292640"/>
              <a:ext cx="503280" cy="358560"/>
            </a:xfrm>
            <a:prstGeom prst="rightArrow">
              <a:avLst>
                <a:gd name="adj1" fmla="val 50000"/>
                <a:gd name="adj2" fmla="val 3509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975"/>
          <p:cNvGrpSpPr/>
          <p:nvPr/>
        </p:nvGrpSpPr>
        <p:grpSpPr>
          <a:xfrm>
            <a:off x="826920" y="907920"/>
            <a:ext cx="1944720" cy="2016360"/>
            <a:chOff x="826920" y="907920"/>
            <a:chExt cx="1944720" cy="2016360"/>
          </a:xfrm>
        </p:grpSpPr>
        <p:pic>
          <p:nvPicPr>
            <p:cNvPr id="102" name="Picture 966" descr=""/>
            <p:cNvPicPr/>
            <p:nvPr/>
          </p:nvPicPr>
          <p:blipFill>
            <a:blip r:embed="rId5"/>
            <a:stretch/>
          </p:blipFill>
          <p:spPr>
            <a:xfrm>
              <a:off x="826920" y="907920"/>
              <a:ext cx="1944720" cy="20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AutoShape 972"/>
            <p:cNvSpPr/>
            <p:nvPr/>
          </p:nvSpPr>
          <p:spPr>
            <a:xfrm>
              <a:off x="971280" y="2421000"/>
              <a:ext cx="432000" cy="360360"/>
            </a:xfrm>
            <a:prstGeom prst="rightArrow">
              <a:avLst>
                <a:gd name="adj1" fmla="val 50000"/>
                <a:gd name="adj2" fmla="val 299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4" name="WordArt 8" descr=""/>
          <p:cNvPicPr/>
          <p:nvPr/>
        </p:nvPicPr>
        <p:blipFill>
          <a:blip r:embed="rId6"/>
          <a:stretch/>
        </p:blipFill>
        <p:spPr>
          <a:xfrm>
            <a:off x="5492880" y="171360"/>
            <a:ext cx="3511440" cy="633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1692360" y="1394640"/>
            <a:ext cx="712764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1. С какого музыкального произведения начинается история отечественной музыкальной символики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2. Когда в России появился гимн-марш "Гром победы, раздавайся"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3. Кто был автором слов и музыки гимна-марша "Гром победы, раздавайся"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4. Как назывался национальный духовный гимн дореволюционной России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5. Назовите композитора и поэта, создавших национальный духовный гимн дореволюционной России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6. Какое музыкальное произведение являлось официальным гимном России во время правления Александра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7. Кто был инициатором создания собственного национального гимна России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8. Назовите композитора и поэта, создавших первый национальный гимн России-"Боже, царя храни!"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9. Какое музыкальное произведение являлось временным государственным гимном России в период после Февральской революции и до октября 1917 года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10. Какая страна является родиной "Марсельезы"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11. Кто был автором слов и музыки международного пролетарского гимна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12. Как назывался первый государственный гимн Российской Советской республики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13. Кто был автором музыкальной основы государственного гимна России 1 1993-2000 годы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14. Кто является автором музыки современного государственного гимна России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WordArt 8" descr=""/>
          <p:cNvPicPr/>
          <p:nvPr/>
        </p:nvPicPr>
        <p:blipFill>
          <a:blip r:embed="rId1"/>
          <a:stretch/>
        </p:blipFill>
        <p:spPr>
          <a:xfrm>
            <a:off x="4267080" y="182520"/>
            <a:ext cx="4737240" cy="1128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SWScan00286"/>
          <p:cNvPicPr/>
          <p:nvPr/>
        </p:nvPicPr>
        <p:blipFill>
          <a:blip r:embed="rId2"/>
          <a:srcRect l="55813" t="11043" r="12993" b="39003"/>
          <a:stretch/>
        </p:blipFill>
        <p:spPr>
          <a:xfrm>
            <a:off x="0" y="0"/>
            <a:ext cx="1476360" cy="6858000"/>
          </a:xfrm>
          <a:prstGeom prst="rect">
            <a:avLst/>
          </a:prstGeom>
          <a:ln w="19080">
            <a:solidFill>
              <a:srgbClr val="7f7f7f"/>
            </a:solidFill>
            <a:miter/>
          </a:ln>
        </p:spPr>
      </p:pic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SWScan00286"/>
          <p:cNvPicPr/>
          <p:nvPr/>
        </p:nvPicPr>
        <p:blipFill>
          <a:blip r:embed="rId1"/>
          <a:srcRect l="55813" t="11043" r="12993" b="39003"/>
          <a:stretch/>
        </p:blipFill>
        <p:spPr>
          <a:xfrm>
            <a:off x="0" y="0"/>
            <a:ext cx="1476360" cy="6858000"/>
          </a:xfrm>
          <a:prstGeom prst="rect">
            <a:avLst/>
          </a:prstGeom>
          <a:ln w="19080">
            <a:solidFill>
              <a:srgbClr val="7f7f7f"/>
            </a:solidFill>
            <a:miter/>
          </a:ln>
        </p:spPr>
      </p:pic>
      <p:graphicFrame>
        <p:nvGraphicFramePr>
          <p:cNvPr id="109" name=""/>
          <p:cNvGraphicFramePr/>
          <p:nvPr/>
        </p:nvGraphicFramePr>
        <p:xfrm>
          <a:off x="1619280" y="1052640"/>
          <a:ext cx="7273800" cy="5568840"/>
        </p:xfrm>
        <a:graphic>
          <a:graphicData uri="http://schemas.openxmlformats.org/drawingml/2006/table">
            <a:tbl>
              <a:tblPr/>
              <a:tblGrid>
                <a:gridCol w="1933560"/>
                <a:gridCol w="1884240"/>
                <a:gridCol w="1835280"/>
                <a:gridCol w="1620720"/>
              </a:tblGrid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1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Утвержден новый Государственный гимн СССР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9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Утвержден Государственный гимн России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Утверждён Государственный гимн Российской империи «Боже, царя храни!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Законодательно приняты государственные символы России- герб, гимн, флаг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1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Создание гимна -марша «Гром победы, раздавайся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Упразднение старых и утверждение новых государственных символов Росси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Появление первого национального гимна России на слова В.А. Жуковского и мелодию английского гимн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3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Rectangle 146"/>
          <p:cNvSpPr/>
          <p:nvPr/>
        </p:nvSpPr>
        <p:spPr>
          <a:xfrm>
            <a:off x="3492360" y="2288520"/>
            <a:ext cx="19432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omic Sans MS"/>
              </a:rPr>
              <a:t>Восстановите даты и события,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omic Sans MS"/>
              </a:rPr>
              <a:t>связанные с историей становления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Comic Sans MS"/>
              </a:rPr>
              <a:t>и развитием государственных гимнов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omic Sans MS"/>
              </a:rPr>
              <a:t>нашей страны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WordArt 8"/>
          <p:cNvSpPr txBox="1"/>
          <p:nvPr/>
        </p:nvSpPr>
        <p:spPr>
          <a:xfrm>
            <a:off x="5580000" y="333360"/>
            <a:ext cx="3024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айндат</a:t>
            </a:r>
            <a:endParaRPr b="1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6"/>
          <p:cNvSpPr/>
          <p:nvPr/>
        </p:nvSpPr>
        <p:spPr>
          <a:xfrm>
            <a:off x="1835280" y="1413000"/>
            <a:ext cx="5761080" cy="36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о горизонтали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. Преображенский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 «Марсельеза»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. Глинк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. Держави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. Жуковский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о  вертикали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. Александров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 Интернационал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WordArt 8" descr=""/>
          <p:cNvPicPr/>
          <p:nvPr/>
        </p:nvPicPr>
        <p:blipFill>
          <a:blip r:embed="rId1"/>
          <a:stretch/>
        </p:blipFill>
        <p:spPr>
          <a:xfrm>
            <a:off x="5492880" y="171360"/>
            <a:ext cx="3511440" cy="633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SWScan00286"/>
          <p:cNvPicPr/>
          <p:nvPr/>
        </p:nvPicPr>
        <p:blipFill>
          <a:blip r:embed="rId2"/>
          <a:srcRect l="55813" t="11043" r="12993" b="39003"/>
          <a:stretch/>
        </p:blipFill>
        <p:spPr>
          <a:xfrm>
            <a:off x="0" y="0"/>
            <a:ext cx="1476360" cy="6858000"/>
          </a:xfrm>
          <a:prstGeom prst="rect">
            <a:avLst/>
          </a:prstGeom>
          <a:ln w="19080">
            <a:solidFill>
              <a:srgbClr val="7f7f7f"/>
            </a:solidFill>
            <a:miter/>
          </a:ln>
        </p:spPr>
      </p:pic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618920" y="1773360"/>
            <a:ext cx="707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."Преображенский марш"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В конце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XVIII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ве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.Поэт Г.Р.Державин и композитор О.А.Козловск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."Коль славен наш Господь в Сионе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.Поэт М.М.Херасков и композитор Д.С.Бортнянск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."Молитва русских" на стихи В.А.Жуковского и музыку английского гим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7.Николай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8.Поэт В.А.Жуковский и композитор А.Ф.Льв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9."Марсельеза"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0.Франц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1.Поэт Э.Потье и композитор-любитель П.Дегейте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2."Интернационал"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3.М.И.Глин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4.А.В.Александр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WordArt 8" descr=""/>
          <p:cNvPicPr/>
          <p:nvPr/>
        </p:nvPicPr>
        <p:blipFill>
          <a:blip r:embed="rId1"/>
          <a:stretch/>
        </p:blipFill>
        <p:spPr>
          <a:xfrm>
            <a:off x="4267080" y="171360"/>
            <a:ext cx="4737240" cy="1139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SWScan00286"/>
          <p:cNvPicPr/>
          <p:nvPr/>
        </p:nvPicPr>
        <p:blipFill>
          <a:blip r:embed="rId2"/>
          <a:srcRect l="55813" t="11043" r="12993" b="39003"/>
          <a:stretch/>
        </p:blipFill>
        <p:spPr>
          <a:xfrm>
            <a:off x="0" y="0"/>
            <a:ext cx="1476360" cy="6858000"/>
          </a:xfrm>
          <a:prstGeom prst="rect">
            <a:avLst/>
          </a:prstGeom>
          <a:ln w="19080">
            <a:solidFill>
              <a:srgbClr val="7f7f7f"/>
            </a:solidFill>
            <a:miter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SWScan00286"/>
          <p:cNvPicPr/>
          <p:nvPr/>
        </p:nvPicPr>
        <p:blipFill>
          <a:blip r:embed="rId1"/>
          <a:srcRect l="55813" t="11043" r="12993" b="39003"/>
          <a:stretch/>
        </p:blipFill>
        <p:spPr>
          <a:xfrm>
            <a:off x="0" y="0"/>
            <a:ext cx="1476360" cy="6858000"/>
          </a:xfrm>
          <a:prstGeom prst="rect">
            <a:avLst/>
          </a:prstGeom>
          <a:ln w="19080">
            <a:solidFill>
              <a:srgbClr val="7f7f7f"/>
            </a:solidFill>
            <a:miter/>
          </a:ln>
        </p:spPr>
      </p:pic>
      <p:graphicFrame>
        <p:nvGraphicFramePr>
          <p:cNvPr id="119" name=""/>
          <p:cNvGraphicFramePr/>
          <p:nvPr/>
        </p:nvGraphicFramePr>
        <p:xfrm>
          <a:off x="1619280" y="907920"/>
          <a:ext cx="7345440" cy="5754960"/>
        </p:xfrm>
        <a:graphic>
          <a:graphicData uri="http://schemas.openxmlformats.org/drawingml/2006/table">
            <a:tbl>
              <a:tblPr/>
              <a:tblGrid>
                <a:gridCol w="1827360"/>
                <a:gridCol w="1828800"/>
                <a:gridCol w="1757160"/>
                <a:gridCol w="193212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1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944- Утвержден новый Государственный гимн СССР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9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993 - Утвержден Государственный гимн России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833 - Утвержден Государственный гимн Российской империи «Боже, царя храни!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2000 - Законодательно приняты государственные символы России- герб, гимн, флаг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1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7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791 - Создание гимна марша «Гром победы, раздавайся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918 -Упразднение старых и утверждение новых государственных символов Росси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815-Появление первого национального гимна России на слова В.А. Жуковского и мелодию английского гимн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3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WordArt 8"/>
          <p:cNvSpPr txBox="1"/>
          <p:nvPr/>
        </p:nvSpPr>
        <p:spPr>
          <a:xfrm>
            <a:off x="5580000" y="333360"/>
            <a:ext cx="3024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айндат. Ответы</a:t>
            </a:r>
            <a:endParaRPr b="1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2T11:32:57Z</dcterms:created>
  <dc:creator>БТК</dc:creator>
  <dc:description/>
  <dc:language>en-US</dc:language>
  <cp:lastModifiedBy>Пользователь</cp:lastModifiedBy>
  <dcterms:modified xsi:type="dcterms:W3CDTF">2019-01-17T15:44:41Z</dcterms:modified>
  <cp:revision>99</cp:revision>
  <dc:subject/>
  <dc:title>Презентация PowerPoint</dc:title>
</cp:coreProperties>
</file>